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38A0-98AE-4E67-9C53-11A32CF1E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9090-8831-48CA-AA8C-0F98FC450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EB63B2-7676-429E-B73F-243833443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B3E961-F4B1-41BD-B750-90352EDF3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502991-6CD2-4656-94B3-94FF784C8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1B837E-D6F3-4A73-B723-26369480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9B8E97-0CC9-4EFC-8823-0E5290B1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46F88A-3324-487B-AD52-5B3FAD50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6D02D8-2924-43E3-AEC9-4BA7090A4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489202-4177-4B7F-BBA4-CB06702BD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FB3AEB-D0BF-4567-9C64-8BE4F8054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1ED4-DEC2-4C50-BA07-F2ECFD9B9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B43F-6E7D-4EB9-AF02-1C51A1238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46034-D591-469D-A91B-415444E42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1F497-03D3-4E60-8EC5-0F3854635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2870E-EEC1-4DF1-86C9-0B1F61AA6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BCE68-DA70-4BDB-87A8-C579C886C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D1B74-E78D-439B-9EC3-B8592A909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FC893-3812-4F4C-B4B1-D28A43DE4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33AAA-084B-4124-B73B-BF334879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887D-60A3-4380-B6AD-983325768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05885-7DC5-495D-88AA-DA9F50DF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D4A68-1442-4400-B9D8-71CB144E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B836B-448D-48D0-9F35-591DA5AB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1D96B-DB18-4A0B-B378-62B785323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0E692-52E9-4B88-941D-75259C9EF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97B19-9F68-4626-87E8-CA55C1E24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00748-E84D-4043-9F8E-9970CD592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E7D65-2FFE-478E-97FF-6A28A5D21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4E14D-DF6E-4B2E-9D3D-64BD72C2D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BE8A8-00BC-45FB-B639-F763D0D16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A81A-60AA-451B-B096-5112EC15C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C6D79-7372-46C0-A97A-18A98600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4B4C1-104A-408D-B38B-AFC3147F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34C4C-E57F-402E-BD99-CA01F521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A7D28-FAA7-495A-A3EE-7E93A88D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18839-DDE6-413A-BE71-1D227FCFA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0EC9E-FB2A-4AB8-8A52-6B960BFFE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A745D-F73A-4DE2-9569-80CC10C87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D1E09-1364-4124-8AC4-434DA2453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658BB-20AF-4E98-BBD6-84C6AD800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84065-BEA4-45E4-AFD8-1F9DB1C06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6947-DDFC-4ED2-9D7D-4669F782D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18CD9-43C5-4ED2-8F10-B53C4043C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DB42D-BD7D-4E28-A870-196E6ABDC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9132F-8914-4B46-8EBD-19A315EB3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EBE59-59E2-4B71-8FD2-D8936B88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91CCD-D263-464D-989A-95620F19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1AB03-2064-429E-A052-7D5CCEFD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2B6F4-E583-4584-8764-9EDFDDB36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79F4C-D478-4D5B-AF91-48F26453E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CEC53-9145-4E8E-A30E-739D904EE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D0AAE-7D0E-46DE-B099-522D988D7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E8C2-E225-4B98-98CE-5B53C40CF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B2B62-47EC-40CD-BE43-D5BF34CF4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3CB4F-D76C-44BF-BCCD-A1BB9976D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6A113-2A4F-4A1E-A17B-C98C3B2DA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6D153-9734-418B-A63F-290FFFBEC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F1CC8-7F37-4C59-B133-6E7314E62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602B9-8FB1-4123-B750-C690886F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9CA3B-0F64-4297-854D-FCAFC6B9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1F76F-DBB7-4D6D-8EDA-81F48E90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F4EB3-EF8D-41F9-B800-45E70E85B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FBE6E-CE62-4B06-ABAA-B658A4BE8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F96A-5E9E-4E34-AD39-F7607569A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D5790-0AAE-4FE6-9399-09FB68B53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9C9A8-7D94-4B66-A8BB-C075A7C1C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4AB28-DAB9-4672-A988-03C0A974A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AA48B-F771-4631-B573-E8A10BB55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34AB8-1D37-4BB2-83E8-4E903E6D5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C19BE-CC3C-4A9E-8B3D-F4F709E17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9F54F-4B3D-4EC9-8D66-A77FAC56C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0AB14-E68E-48BB-93A8-648A1AFC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43067-17A7-408A-93A6-A93A8D7A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262CE1-7173-4495-882B-D1B1469F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0BC5-7E3E-4C16-A2CC-BEFD1217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E674F-1155-4876-936A-94C0035A4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D8882-8BFF-4BE9-98E7-092F74D86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170B6-C09D-44C0-A407-054BBF29F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FFE65B-8D22-4A82-B5E9-68D2BAAF1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9F0C6-C290-480F-AFC6-349F7313A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9067B2-B4CB-4AA4-BEF0-21EE0CD01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C4EDB-CB3B-47E8-AA32-3CB78BFC1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B0EC0-A2AB-4DEA-8293-C4DFD71A4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D94642-5430-4E6A-9A6C-0158837FA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C24A5A-72AE-40FD-B91A-9E9557F3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593F-36FB-49D8-A87F-404C9AF7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6BE2B6-F3A6-4C72-BC42-F591AFAB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246BB7-F181-491D-9A38-32B5B5BA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BE8E25-8AA2-4151-B35B-4FF3AB02A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ABE79-38BA-48D3-8F2B-EBE5B48EF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5AA9F-658E-4344-BE46-A0B6B2C59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CDCA9-6A9E-4810-9931-DCA71CFD4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C54212-6AA1-47C4-A220-A62D64429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386F9A-161E-42F8-B41C-C88F6CEB8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7864E-3A89-4654-BC88-9873F92F8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29173C-2C0D-4E21-A762-56ED430D3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C55C-C3BA-449D-BE3C-259315D3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B42639-6A44-4C0F-B6C6-628B40738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6DA527-8928-4489-8A26-A8AAA34F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E9FD37-8ECC-491A-A13C-0AFF3216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2E5CCB-138A-43F9-84C6-3239981D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3E7BE2-B9EC-455F-8446-C4144697A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9B0BE-B452-4C60-A911-3297AD720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224409-F538-45DD-80C4-5417821BD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ED688D-A264-4CD0-A1CD-A9C17FF61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792BA9-EBE5-4BF6-ADB2-5A62D955E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F06186-8B53-4F88-8534-7FBB0DD98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44AC6-4E15-4E40-8B3A-48D60557E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C113C-5AF2-4DFB-8AEF-A6A9CCACA2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143000" y="2971800"/>
            <a:ext cx="68580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B1ED5-DE47-4229-A020-AAE5D0356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639F1-AB64-40D7-A66A-02BA1C758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12733-35D6-4BF0-9C5B-514FEDAD6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143000" y="2971800"/>
            <a:ext cx="68580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B2A7-1BB7-4617-B68A-4A0897AB3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C01A8-EDA1-430C-867A-772C20E74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547B2-01D6-4B20-84FF-9D0E0F65D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143000" y="2971800"/>
            <a:ext cx="68580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A693D-CDFE-4210-BD73-2F745F817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4.5 and 4.7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bruary 20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Arial"/>
              </a:rPr>
              <a:t>Solve equations using radical expressions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√(3x-3)=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a rational function and its dom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and interpret vertical asympt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and interpret horizontal asympt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 rational eq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 the properties of rational ex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 radical n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the properties and graphs of power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 equations using radical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Rational function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unction where f = p(x)/q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 1/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3733920" y="2590920"/>
            <a:ext cx="4038480" cy="33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Vertical asymptote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ical asymptote: when the denominator is zero, there is a vertical asymptote at x=k, where k makes the denominator z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990720" y="3200400"/>
            <a:ext cx="2057400" cy="103500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3"/>
          <a:stretch/>
        </p:blipFill>
        <p:spPr>
          <a:xfrm>
            <a:off x="3886200" y="2743200"/>
            <a:ext cx="487692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Horizontal asymptote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rizontal asympto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x</a:t>
            </a:r>
            <a:r>
              <a:rPr b="0" lang="en-US" sz="3200" spc="-1" strike="noStrike" u="sng" baseline="30000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n&lt;m then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xis is the horizontal asympto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m=n then the line a/b is the horizontal asympto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n&gt;m, there will be no horizontal asymptot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Finding the asymptotes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horizontal and vertical asymptotes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990720" y="2765520"/>
            <a:ext cx="1981080" cy="89208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3"/>
          <a:stretch/>
        </p:blipFill>
        <p:spPr>
          <a:xfrm>
            <a:off x="4952880" y="2616120"/>
            <a:ext cx="228600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Solve rational equations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y each side by the denomina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norm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3x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=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Arial"/>
              </a:rPr>
              <a:t>Learn the properties of rational exponents and radical notation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m/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(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/n=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√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/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√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√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Arial"/>
              </a:rPr>
              <a:t>Understand the properties and graphs of power functions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fun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b is a cons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ot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/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n is an integer greater than or equal to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9:46:00Z</dcterms:created>
  <dc:creator>nuhs</dc:creator>
  <dc:description/>
  <dc:language>en-US</dc:language>
  <cp:lastModifiedBy>nuhs</cp:lastModifiedBy>
  <dcterms:modified xsi:type="dcterms:W3CDTF">2008-02-20T21:24:24Z</dcterms:modified>
  <cp:revision>3</cp:revision>
  <dc:subject/>
  <dc:title>4.5 and 4.7</dc:title>
</cp:coreProperties>
</file>